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860-BB3D-4CB5-AB5B-3A51F6D9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58C7-DAFC-4820-8419-A881F43C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3A151-3BEA-4D8A-A3DB-B8D57B14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DF1D8-889A-4286-B986-CC2796A7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68F03-650B-4221-975B-3F578CF5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36050-6944-4DB7-8EA5-6F7E3CB2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6CF4A-D0AC-4B6A-9346-B936014A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8C8EF-6538-4324-8C0E-A7A68B7F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D5CD2-EAF5-4C1A-87A7-9196BA1E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8A68B-747A-452C-8E3F-856AF0B0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45554-65E8-4C18-B1CD-0603AB52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3F265-72B3-4CBC-9DCB-846B917D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28F0-7A73-4C5A-A1EE-914DC0B3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3AC9F-2CFD-4CC7-ADE9-13A55D63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6929E-3995-4C5D-A8CD-C26BC43B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F5C6C-549C-41EA-952D-6D56BC52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0A8F4-AFCD-4822-A860-486C6B8D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B89DF-7192-4D35-9C96-5F25B902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6074B-E031-4193-90FD-8F392AAE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EC29E-3949-4691-9076-7DCB98BA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7CC2F-507E-4D4C-80F7-44DDE4B9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2D03D-754D-488D-AE65-B17AFBEE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D1C57-873A-4682-8C7C-715C0211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AFEF-0AD8-4431-A4F2-A407E984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8E416-4A9C-4A1A-AC68-4841E86C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7DFA3-6D5C-46A5-B9CC-3B909A62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7644E-92D1-4702-A4BF-ECDD536B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9B057-1777-4B60-955F-470E32B1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48385-849D-4FC6-929E-8933DB01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4546B-460B-4997-8A7C-965CD96B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FA863-2D35-4E78-9102-4AC98B0F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04755-155D-4F39-B119-B1313A67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667A6-9BC3-4202-B51B-4996D9D4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F0668-D436-4657-917E-5F5BFD38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11AA-78E7-40D6-9F79-47C2165D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BFD73-BD0D-4A65-8213-5B9EA542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F4A5A-A544-49BB-A6E1-8E9DDDA3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25FCC-D19E-4668-B403-0C2E8EDD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5B8A8-F9A4-43FF-9D36-58B0314E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EEDB1-4521-421F-B0E2-B3164A95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AB36D-9B4D-4836-8248-76192680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83EA5-DF86-4E6A-82C2-9D017A5D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257B66-2FC0-44BA-888F-70DDA06D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495FC-6E80-4516-8ADF-AC99A8C6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A9388-4488-4092-B084-E7E00FC1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E6B5-F235-4110-A5EF-BF3D67A4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BE6E8-681B-4BB9-888F-A54106D3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C59F5-DB30-474C-9D74-F7AE9C38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040FD-5C3B-4C99-A498-C3727210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11A8D-EDD3-49B9-9EC3-533E6A60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204EC-D37C-49D8-967A-9E819EF6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A434D0-91E7-4D0E-A2A9-E5B6811B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279F3E-063D-4357-A312-B96C6FA5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BD5367-BA29-4414-B8A9-CC687F3C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A3CAE5-FCA1-48B3-BFD8-B04EC6A9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1D2D74-95D1-48FF-9B7A-0B6903D8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C645-6A4F-4D35-AFCE-6D435A8F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A1470D-6C98-458B-BC76-23461F44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1E1D9A-C687-4E56-91A4-C0C3B01C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1F4533-E561-4978-9B01-E70B229F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78C57C-7181-48F6-AC82-B5E3291A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24A922-620E-4125-94EB-DB19F826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DFDA2A-421C-4B49-9694-60C00901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E91D49-FBC0-4D9E-8A7A-0C678152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D91EA1-F1A7-4D43-B1EE-02C41095E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D32103-427C-4306-A4A5-52DE9C11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644D31-AD83-4CCD-B492-66C03CCA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48DB-5D5D-4B1A-832A-9AA41293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480FBA-8298-4753-BD64-6DF5E646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F1533E-446C-41F3-8FE3-A45F67FA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83DC46-569A-4724-83CB-289A5F21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710C8C-37D3-47B4-B95C-31EB3744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4ACB38-0B53-4382-B75B-EE352613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DABD42-4679-422D-865A-8C31A09D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63C19B-F88B-4505-AE1B-569049A7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6ECBA7-0D52-4408-B9ED-C8C1B214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AF02A9-99F8-43E0-AD11-98841E8D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B7A121-5EC4-4C0E-BE85-068AD22E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980C-AFDD-4ABA-B94C-F697D4E6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6E7E1C-4E8D-489D-87B9-4ED3CE81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E6F568-1D3B-4878-8E2F-94208CE0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A8CF13-459B-4180-B064-883CDC5C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EA10D2-0F3A-4B85-99FE-D9FB9E73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58DF71-1DD0-4996-A426-7554619F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9CE5FD-9843-493B-825A-92785135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B5AABE-38FB-43C2-A91F-E37224DA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17CBF8-A495-4D0C-9D88-0001E7A5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113249-182A-4165-A709-D1EF0643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3975F1-1A5A-4A04-A3B4-4B55C5C7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87A1-43C1-4D41-8845-9D43E4E1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C0D815-B703-4D79-9816-0C0C0653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2C651D-DF23-4652-976C-A8198157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EFBE17-6503-40B7-8A27-267D46DB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FB9926-C406-47C0-8C30-6E3DA2D4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A357BA-807A-402D-975E-145E0F51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32998B-931D-4FC8-930B-FE74E717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04F9FD-FD70-4471-9F53-861BD0DC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BF0A6D-5ED8-4605-8101-68F2139C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FFC85E-82BA-4583-8DAC-658BA89E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E9D820-91C3-49B8-80F1-38654AAE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310C-6272-4FC7-BC62-EC1C5ADF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6A4DFA-1F08-43A2-B3C9-0A817D11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F58145-BCDF-42A0-9637-3D626F0C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6E1103-B081-4EFF-A9E1-15FF64C4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A69B9C-390F-4DF2-A95A-BF8D0703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57B8DE-CF2D-4DAC-8B0D-A166CD54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DCCBE9-9709-4AFB-B62A-6E63B2D8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487912-11F8-457C-82EC-A96A26E9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AA2131-3837-4CF8-9B51-681906EC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D37BBB-AFE3-42EB-833C-6B7318A2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097F39-A4AB-41DE-83EF-E83DDA95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06C5-73D0-4357-8220-56C6A97F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2F45-6901-46C5-A4EE-882A85A0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53A7EF-6AFC-4F82-A76C-9782D49E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C52E68-0C4F-4C7A-999F-F5E25CA7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594A3C-25F9-4355-ADBC-729E0B40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6F42A6-6301-4311-A248-0960E58E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3C5655-08E0-4984-A7E3-3D106876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E56D17-503A-47AA-BC74-0BCC2498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2AE5F3-34DD-436F-9264-6621A248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3067CD-BA15-42DA-966D-4B3D33B0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568780-2A6C-4AAD-8DB7-8155B8C4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0F270F-1E68-4E61-9078-66202ED5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93DC-13AF-42BB-BB27-482F3D53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DC894F-C9E2-4467-9704-EF3EDEF4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1989CF-832F-4C6F-8656-2893429F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012689-D2CE-422F-AF49-5CDBF152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985FC3-6D02-4B9F-B5D5-00A51336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AAC239-7CBF-4B94-895D-C681EA7B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DA886A-461B-4548-8C43-451E7DBD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F424B1-BE3C-4461-8B07-CBFB1483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5B1828-5D16-44B3-A9A8-AC9239DB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4EBCC0-F6F2-4F37-84C3-FB2A7F4D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DA5926-5249-41B6-B1BC-0A80D217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ECA1-E2DA-42A5-AF77-0BDB3175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1860F1-060D-45DD-8EF5-F704DEF2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4B07D7-AB87-454E-BFE8-580671EC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BEB12D-2107-4CA1-897E-47C5E36F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5942FB-B5ED-446D-844C-42966886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F18CCF-A7DA-4E84-9AE4-E0E5637D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4F0098-7929-4310-B834-0CC33B54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93A1BB-228F-4F13-9E98-F1850ABA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758657-C64A-4708-832D-DDE507BB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06DFFC-9C76-47CC-BE88-5261C26AD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29C056-E1F8-42C5-BD2C-CEC2C28E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4A5D-BD75-4236-AF84-A7135DA17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AE73CB-7188-486C-89CE-4A519235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026270-4BA4-489F-8070-5C2CE14A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A4830D-9BCC-42CA-9682-A47F159F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907C4E-8518-4E2A-BF96-1B2846BF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227DD0-BDBE-454C-9C34-09D40BDD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C9303C-5A52-4B40-A245-F0B866C6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FCCC21-533B-4115-A0EB-E8E8AAE5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427A50-7144-4CCF-8B82-A5E0DAF5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1CE187-D204-4075-8175-821BDA50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5E5AA9-93CE-4D63-BCAF-5D149C24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614B-20A2-4F22-9F00-5535B944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C22235-8EF9-4600-9C63-09B3A677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CECF5C-3568-457D-A507-C6D1AB00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5F8540-2D74-4F54-A285-AD8EFF0F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EE169D-214B-428C-B627-D4ECE640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9C5784-5DDC-4C0A-AA4B-EED41A03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DE8ED4-3516-4B7D-B0B4-BFA95B47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5F06BF-AB2B-4177-9FFC-0902FB8F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CA78F6-074C-470E-9B7B-98B79CD5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66A7EC-32D9-44A8-80B3-94907FF2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4612CD-9B94-4032-85B6-F6114944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DC6A9-DE5D-427A-ACBB-0A70C23F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251577-917B-4728-877D-F436BEBA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A62B1B-2117-4763-8C54-E324E6F2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2522DF-8DE0-4A61-B80B-8D83B448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EB635E-4ED4-43FA-83B4-2F13DE01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ACF301-E64F-43C2-A27F-5589DC01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B56798-A0A1-40E0-87A4-FE0BE3F1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02BEC9-40A8-4814-8401-9827B1D7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EAEDF0-E4A0-4DC7-89D6-9EAC1662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750755-F834-48BB-B202-D8ACF55C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E5BD09-534C-4A38-8DAA-27E4F60E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32C55-07CB-44E9-ABD7-285F8A29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EC3207-ECAD-4545-96D1-F1D6F8B6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FC4537-6F34-482E-A7F9-26F3869C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61D3E5-45E1-4295-BE7D-F3081F4E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CDC3DE-90E8-47EB-8C50-132C62F1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99766A-C633-4B1E-95C0-4A9E33CF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EE64A6-202A-49C4-901E-C0354991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BFA856-410B-4D91-B775-E0741A74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B1DAF5-FDBC-44A7-9769-2F96E116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FB6D43-BFA9-44E2-BE11-7FC194FC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6D691E-F346-4820-9AB2-2D275D35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4BBB1-D1D5-4F30-9490-C7411F0F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F921A6-42AE-407E-99D3-6D0BFE17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377195-793F-4C1A-9727-ED1FB6FD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27A708-85B6-4E9D-BEDA-D2B202E2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97EC70-F97C-40AF-8A69-3B4A3CD6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D1D108-34F7-4AF1-87A0-F4E7A6EE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D99A5C-5B71-4012-A431-85612C5F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F0D799-9000-4B4B-8465-C43EBC2D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6A210-D609-41FC-A8A6-9BED7E69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16722-D67E-40A0-BEDC-FBB6610F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922C-153B-4519-AA00-EE197A58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C0FA5-59C6-48FB-B26F-60820191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B770B-1EBA-4169-8147-9FF4762F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0D82D-5B37-4BC9-821D-32909835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F2C27-A8DD-44D1-9836-49D164A0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88E1E-6777-40B4-857C-0320D0E5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07472-B84B-4916-8F84-8FE3C362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B5404-D742-4FF9-B8F2-FEDE50DA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A75AB-66F3-405F-B7F8-ADC47F2C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AA2D3-97AB-4536-9162-EC4F7498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2E576-BA04-4812-873A-CA8B249E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741A-4543-4959-806B-A5FA5640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C517F-5AB0-4DFA-A418-5ADB7810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BC0ED-159B-4D51-8DF0-662FEC7A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E6DC5-1F58-440E-AA49-3415616E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0BCE1-CDC5-4FFB-BB29-70C8CDDE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B20C6-2921-401C-A2A8-379E0B11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2322D-3BF4-420E-9675-31CDEFDE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657B6-05D7-4C41-92EE-269A668D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458E4-B42A-4EC1-81A8-6044D930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1113F-C434-41F0-8C64-9B932C02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9F453-243E-4FED-880C-154E219B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F699-8252-4F23-A07F-D120889B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DEA6C-42AB-4604-908D-0A03B377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E33D7-CA5E-4A10-9772-D7D22C8F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75EC4-0CA6-421B-A2E8-AE5136A3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0C6DB-74FB-497A-9A23-7EC1C1C8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FCE0B-B384-4A2E-9663-3248C387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188BC-D12F-4F0B-B631-3F1A16C3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5E15F-26E4-4409-A7F8-1524A243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AA4B5-E3DC-4AF7-A47D-484B287A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B1A0D-A506-4119-A134-E029D3C0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66345-1A8A-4AB7-A2E8-9EB289EA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C2C-EF7E-47FC-9BEE-109BB49A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3C662-62A9-4F16-9C6C-E14A3C1D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630F1-4CB1-4DF8-BB05-D13844D9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BCF11-6E6B-42B9-BFF2-DF0AB69F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D1B24-A69A-4F17-BE34-F7946744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D1921-0D36-4235-A663-22988B6B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C8E6A-0FA4-4F0D-A825-22EFB380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5C294-BDBF-4627-9463-0FB5C5E0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CB93F-4636-45FD-A060-0E978D97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0A383-7FC3-40EA-8F8E-06982FE1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C6FAD-B807-45A5-93E7-E95DBDA7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3AA0-A1DE-4CA4-9945-3DDEC733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0259B-6764-48E7-9DA1-4D8B6D49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DCF64-A118-4BAA-8920-7334044A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D4E7E-C2EE-4F86-B73A-C6CF7DD1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E318C-91AF-428E-9A29-761635C7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C29B2-2422-4D2F-ACA4-A0F18C3B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6DB55-E8F0-4739-8A42-09FD0BF2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BCE73-8E25-4F25-A92E-554FB056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BD6EE-43ED-4F57-A2DB-1D639AA8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5086C-CE84-42B6-AB0A-9438BA41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3683F-E769-4958-A7DE-A3F64131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81DB-6FDC-4FB2-9C64-1AC8BEAD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1D7D2-B353-482F-8254-80D64113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C26A4-FFDA-4618-A50E-E91FBAB9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5748E-8BED-4335-ADEA-157BB447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1CA4E-3605-4079-934C-3E5AD2E1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7CC1F-4220-42D1-BC75-E67376B1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F7C6F-AE20-4B1F-89E8-4C9D22D9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2C75F-66A9-4B1F-B67B-9FF18771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683A9-0356-4231-8A15-DE5D21BB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2B273-27E4-4E01-B4F5-DC7E5F24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BB9F0-E950-42C2-BE28-89D88AA2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7BD4-3998-4082-8890-20331324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CFB40-1C79-4792-9797-7EC7307B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D4C2E-EE77-45B0-997D-8646A248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6764C-0769-4209-8434-38AF00FF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F88A3-C65B-44F8-951F-025A87AD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CDFFB-8021-4370-874C-D230507E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584FE-BFC3-46A4-BE5B-15026B6D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827E9-6BD6-4EF0-9011-B231C014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A9573-8249-4E3A-953A-577BC423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50DBF-CECB-41F3-8DD9-697AD9B8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6258C-72B8-4318-93E9-6D5213AF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2283-DCB2-4DC3-8DD1-DB524245FB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140A-9F9C-4AC0-AE8D-4C6FE4BF52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E70E-CB9E-49E3-A500-3FD87823D9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8144-3DAE-4285-98C3-2825003315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5277-8894-4DCA-824C-5A92D0A882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CB64-EECE-40A3-87C2-F3AE174294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BF01-204D-4F72-A6FB-CD2C23A86A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6FAD-7453-479A-A1AC-0EFE68DF7E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05D6-1E78-4605-9FA0-1FF543BFAD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B270-B6F1-4F03-B532-29B6724A74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F3CE-16C9-4CDF-89B0-54F3B472F4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C159-F506-4C5A-B3F8-39C521DBB6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A9DB-CBB5-4B1B-9890-6B9A1803D8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785F-FBEA-45F7-AFA5-B187B5476B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D24C-D932-4EDF-B7FC-093CB7C7E9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85A2-92C2-4DF7-BCB7-693D517351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CDCD-AF92-41A0-B6F3-6513BA0EC6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5E4D-6F45-4C1E-9FF1-95DC9715E5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065B-3A0A-4C4C-B38B-5776D89ED4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206B-FED6-408E-B71C-BC75912636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3B1B-CBF1-4861-AB04-6A265C970D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0FA2-D3D4-43F6-9C85-EFF7F60972B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55B0-9E59-49DD-93E2-F32D1794CE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DFFA-9A77-48C9-969C-748A9C9E98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F97B-141D-4796-A180-D15AB1A4DF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82F0-C4C3-467A-B44B-79D9AD2A67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5916-14E3-41EA-AE8F-58A5A420C7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59A6-BB7C-4144-9F7C-54A1FB0CE8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85EB-7383-4EBB-A759-1D986F02D5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DFF6-BA61-4C50-9B2B-96FC096331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05BC-F25C-4A0C-9368-0592CB5FD2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ED69-33E5-4991-93C5-9F2AD61DF6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C7FD-D790-4D14-A1AF-C062B979A2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6F7F-23E3-427A-ADFB-B7B78D265C2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8BDD-199B-4F43-A0A1-205734D339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0407-6CFC-48F7-AF98-83754EE65D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E09F-6CB7-4BE4-9C52-9116BAFC65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E6B8-F109-4FE1-8FB9-F4788F98AB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9DE6-1CAE-433F-9F72-455C9F31B2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C3D1-1286-4974-90D5-6FD2E2FF27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62BE-D3BE-43E5-9B1A-F7A3BD593D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5360-E135-4489-B311-8B4E9D0628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428760" y="2778120"/>
            <a:ext cx="84279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68400" y="1206360"/>
            <a:ext cx="9007200" cy="1884600"/>
          </a:xfrm>
          <a:prstGeom prst="rect">
            <a:avLst/>
          </a:prstGeom>
          <a:ln w="0">
            <a:noFill/>
          </a:ln>
        </p:spPr>
      </p:pic>
      <p:pic>
        <p:nvPicPr>
          <p:cNvPr id="1060" name="图片 2" descr=""/>
          <p:cNvPicPr/>
          <p:nvPr/>
        </p:nvPicPr>
        <p:blipFill>
          <a:blip r:embed="rId2"/>
          <a:stretch/>
        </p:blipFill>
        <p:spPr>
          <a:xfrm>
            <a:off x="1370160" y="3448080"/>
            <a:ext cx="6762600" cy="22287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3"/>
          <a:stretch/>
        </p:blipFill>
        <p:spPr>
          <a:xfrm>
            <a:off x="3247920" y="1700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4"/>
          <a:stretch/>
        </p:blipFill>
        <p:spPr>
          <a:xfrm>
            <a:off x="3405240" y="2205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5"/>
          <a:stretch/>
        </p:blipFill>
        <p:spPr>
          <a:xfrm>
            <a:off x="5940360" y="1700280"/>
            <a:ext cx="719280" cy="4474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6"/>
          <a:stretch/>
        </p:blipFill>
        <p:spPr>
          <a:xfrm>
            <a:off x="5651640" y="2162160"/>
            <a:ext cx="718920" cy="4478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7"/>
          <a:stretch/>
        </p:blipFill>
        <p:spPr>
          <a:xfrm>
            <a:off x="8459640" y="1685880"/>
            <a:ext cx="611280" cy="44784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8"/>
          <a:stretch/>
        </p:blipFill>
        <p:spPr>
          <a:xfrm>
            <a:off x="8504280" y="2205000"/>
            <a:ext cx="611280" cy="4478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9"/>
          <a:stretch/>
        </p:blipFill>
        <p:spPr>
          <a:xfrm>
            <a:off x="3203640" y="4048200"/>
            <a:ext cx="611280" cy="4474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10"/>
          <a:stretch/>
        </p:blipFill>
        <p:spPr>
          <a:xfrm>
            <a:off x="2484360" y="4681440"/>
            <a:ext cx="611280" cy="44784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11"/>
          <a:stretch/>
        </p:blipFill>
        <p:spPr>
          <a:xfrm>
            <a:off x="6084720" y="4076640"/>
            <a:ext cx="611280" cy="44784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12"/>
          <a:stretch/>
        </p:blipFill>
        <p:spPr>
          <a:xfrm>
            <a:off x="5867280" y="4710240"/>
            <a:ext cx="865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833400" y="1071720"/>
            <a:ext cx="7477200" cy="4714560"/>
          </a:xfrm>
          <a:prstGeom prst="rect">
            <a:avLst/>
          </a:prstGeom>
          <a:ln w="0">
            <a:noFill/>
          </a:ln>
        </p:spPr>
      </p:pic>
      <p:pic>
        <p:nvPicPr>
          <p:cNvPr id="1007" name="图片 6146" descr=""/>
          <p:cNvPicPr/>
          <p:nvPr/>
        </p:nvPicPr>
        <p:blipFill>
          <a:blip r:embed="rId2"/>
          <a:stretch/>
        </p:blipFill>
        <p:spPr>
          <a:xfrm>
            <a:off x="1908000" y="2997360"/>
            <a:ext cx="61819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214200" y="947880"/>
            <a:ext cx="8715600" cy="49622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2"/>
          <a:stretch/>
        </p:blipFill>
        <p:spPr>
          <a:xfrm>
            <a:off x="5292720" y="234936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3"/>
          <a:stretch/>
        </p:blipFill>
        <p:spPr>
          <a:xfrm>
            <a:off x="6775560" y="234936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4"/>
          <a:stretch/>
        </p:blipFill>
        <p:spPr>
          <a:xfrm>
            <a:off x="5249880" y="309708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5"/>
          <a:stretch/>
        </p:blipFill>
        <p:spPr>
          <a:xfrm>
            <a:off x="6732720" y="309708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6"/>
          <a:stretch/>
        </p:blipFill>
        <p:spPr>
          <a:xfrm>
            <a:off x="4873680" y="386064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7"/>
          <a:stretch/>
        </p:blipFill>
        <p:spPr>
          <a:xfrm>
            <a:off x="6356520" y="3860640"/>
            <a:ext cx="86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8"/>
          <a:stretch/>
        </p:blipFill>
        <p:spPr>
          <a:xfrm>
            <a:off x="3089160" y="459576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9"/>
          <a:stretch/>
        </p:blipFill>
        <p:spPr>
          <a:xfrm>
            <a:off x="4572000" y="459576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10"/>
          <a:stretch/>
        </p:blipFill>
        <p:spPr>
          <a:xfrm>
            <a:off x="3722760" y="537372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11"/>
          <a:stretch/>
        </p:blipFill>
        <p:spPr>
          <a:xfrm>
            <a:off x="5205240" y="537372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12"/>
          <a:stretch/>
        </p:blipFill>
        <p:spPr>
          <a:xfrm>
            <a:off x="6300720" y="4595760"/>
            <a:ext cx="863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228600" y="520560"/>
            <a:ext cx="8686800" cy="62200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1042920" y="2565360"/>
            <a:ext cx="396072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900000" y="3141720"/>
            <a:ext cx="396108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4"/>
          <a:stretch/>
        </p:blipFill>
        <p:spPr>
          <a:xfrm>
            <a:off x="900000" y="3645000"/>
            <a:ext cx="396108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5"/>
          <a:stretch/>
        </p:blipFill>
        <p:spPr>
          <a:xfrm>
            <a:off x="5435640" y="2852640"/>
            <a:ext cx="280836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6"/>
          <a:stretch/>
        </p:blipFill>
        <p:spPr>
          <a:xfrm>
            <a:off x="969840" y="5214960"/>
            <a:ext cx="3961080" cy="4474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7"/>
          <a:stretch/>
        </p:blipFill>
        <p:spPr>
          <a:xfrm>
            <a:off x="826920" y="5791320"/>
            <a:ext cx="396108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8"/>
          <a:stretch/>
        </p:blipFill>
        <p:spPr>
          <a:xfrm>
            <a:off x="826920" y="6294600"/>
            <a:ext cx="3961080" cy="447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9"/>
          <a:stretch/>
        </p:blipFill>
        <p:spPr>
          <a:xfrm>
            <a:off x="5362560" y="5502240"/>
            <a:ext cx="280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642960" y="966960"/>
            <a:ext cx="7858080" cy="52765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611280" y="285264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5"/>
          <a:stretch/>
        </p:blipFill>
        <p:spPr>
          <a:xfrm>
            <a:off x="5270400" y="2060640"/>
            <a:ext cx="283068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6"/>
          <a:stretch/>
        </p:blipFill>
        <p:spPr>
          <a:xfrm>
            <a:off x="684360" y="443700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7"/>
          <a:stretch/>
        </p:blipFill>
        <p:spPr>
          <a:xfrm>
            <a:off x="539640" y="494028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8"/>
          <a:stretch/>
        </p:blipFill>
        <p:spPr>
          <a:xfrm>
            <a:off x="539640" y="551664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9"/>
          <a:stretch/>
        </p:blipFill>
        <p:spPr>
          <a:xfrm>
            <a:off x="5199120" y="4724280"/>
            <a:ext cx="28303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147600" y="1204920"/>
            <a:ext cx="8848800" cy="44481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2411280" y="430704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2484360" y="499896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5075280" y="429264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5"/>
          <a:stretch/>
        </p:blipFill>
        <p:spPr>
          <a:xfrm>
            <a:off x="5148360" y="4984920"/>
            <a:ext cx="244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433440" y="1000080"/>
            <a:ext cx="8277120" cy="485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31164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900000" y="3068640"/>
            <a:ext cx="331164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900000" y="3730680"/>
            <a:ext cx="331164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826920" y="4437000"/>
            <a:ext cx="7777440" cy="11527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4859280" y="2421000"/>
            <a:ext cx="331164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7"/>
          <a:stretch/>
        </p:blipFill>
        <p:spPr>
          <a:xfrm>
            <a:off x="4916520" y="3068640"/>
            <a:ext cx="331164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8"/>
          <a:stretch/>
        </p:blipFill>
        <p:spPr>
          <a:xfrm>
            <a:off x="4916520" y="3730680"/>
            <a:ext cx="3311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123840" y="933480"/>
            <a:ext cx="8896320" cy="55339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2700360" y="2549520"/>
            <a:ext cx="3672000" cy="4478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2843280" y="3184560"/>
            <a:ext cx="3672000" cy="447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2844720" y="5227560"/>
            <a:ext cx="3672000" cy="4478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2987640" y="5862600"/>
            <a:ext cx="367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257040" y="1200240"/>
            <a:ext cx="8629920" cy="44575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2"/>
          <a:stretch/>
        </p:blipFill>
        <p:spPr>
          <a:xfrm>
            <a:off x="2556000" y="4710240"/>
            <a:ext cx="1511280" cy="4474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3"/>
          <a:stretch/>
        </p:blipFill>
        <p:spPr>
          <a:xfrm>
            <a:off x="6588000" y="4724280"/>
            <a:ext cx="1511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03:31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